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5B4AF-979B-4ED3-B288-2A2A47C1B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7099F-2D39-4F76-AC8A-97A42897D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F7707-F150-40E7-A2E2-BA37BA177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D57F6-05A7-43CE-A6FA-C65F65DBA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EFA91-05F8-4872-B319-0BDA0B5DD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97752-F7BF-4AAB-BB6F-BA5C4BE06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63268-DF38-42C7-8D2B-0F8693E42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2029D-7130-4952-878F-CD79BFE83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B3A1F-A09A-4545-9909-FBA38045D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1D9A1-6D59-41A9-878F-197C08442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61D5E-82EB-45EB-87FB-E9A4899E6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DA17B-7AD2-46E3-9339-307B48EE5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AA22D-558E-4187-8F9E-5A8B05099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6D74B-957E-416D-8062-75E2CC339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D4FDB-FA12-424E-B36E-EC2B32ECB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BA91F-4F7D-43B4-AB06-445F75EBC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56008-5C4D-4A95-854E-38372034F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4F968-2122-4FA6-9F97-7C5C0DFD3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5C451-8819-492C-AB22-E6BEB48C1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B95AF-E6F9-47E1-9C4F-338C0BC78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95A01-1090-4108-A1DB-EF1BE441E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D488A-28D7-4DBA-9FCC-333E0CB07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927AA-66F5-4B4F-9885-5D2E00027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D02C0-13F5-4660-9A86-E67083C09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6AA35-652B-4C26-BF25-EB7CF909AB6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CEBBF-4EED-422B-BE55-BF425374C29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837720"/>
            <a:ext cx="7086600" cy="2590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The Three Domains of Learning </a:t>
            </a:r>
            <a:br>
              <a:rPr sz="4400"/>
            </a:b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066320" y="3123720"/>
            <a:ext cx="75438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Dr. Verkl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EDG 441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Teaching Strategies and Classroom Manage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University of Central Florida, Orlando, F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Fall 201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Levels of Bloom’s Taxonomy of Educational Objectives 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nowledge:  requires students to memorize and recall inform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mprehension:  requires students to demonstrate some level of understand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pplication:  requires students to use previously acquired information in a setting other than that in which it was learned.  Students are required to transfer their skills to another setting/situation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ipe dir="l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Levels of Bloom’s Taxonomy of Educational Objectives 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nalysis:  requires students to draw relationships among ideas or to compare/contrast; break down informatio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ynthesis:  requires students to draw from what he/she has learned and produce something unique.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Highest level in Anderson and Krathwohl’s model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valuation:  requires students to form judgments about the value or worth of something and to substantiate his/her judgment.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Next to the highest level in Anderson and Krathwohl’s model.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ipe dir="l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2"/>
          <p:cNvSpPr/>
          <p:nvPr/>
        </p:nvSpPr>
        <p:spPr>
          <a:xfrm>
            <a:off x="990720" y="17784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Levels of the Cognitive Domai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380880" y="930240"/>
          <a:ext cx="8382240" cy="5394240"/>
        </p:xfrm>
        <a:graphic>
          <a:graphicData uri="http://schemas.openxmlformats.org/drawingml/2006/table">
            <a:tbl>
              <a:tblPr/>
              <a:tblGrid>
                <a:gridCol w="1347840"/>
                <a:gridCol w="3452760"/>
                <a:gridCol w="1262160"/>
                <a:gridCol w="2319480"/>
              </a:tblGrid>
              <a:tr h="457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8e2323"/>
                          </a:solidFill>
                          <a:latin typeface="Times New Roman"/>
                          <a:ea typeface="ＭＳ Ｐゴシック"/>
                        </a:rPr>
                        <a:t>Leve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ＭＳ Ｐゴシック"/>
                        </a:rPr>
                        <a:t>Descriptio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27140"/>
                          </a:solidFill>
                          <a:latin typeface="Times New Roman"/>
                          <a:ea typeface="ＭＳ Ｐゴシック"/>
                        </a:rPr>
                        <a:t>Verb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ff"/>
                          </a:solidFill>
                          <a:latin typeface="Times New Roman"/>
                          <a:ea typeface="ＭＳ Ｐゴシック"/>
                        </a:rPr>
                        <a:t>Objectiv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e2323"/>
                          </a:solidFill>
                          <a:latin typeface="Times New Roman"/>
                          <a:ea typeface="ＭＳ Ｐゴシック"/>
                        </a:rPr>
                        <a:t>Knowledg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ＭＳ Ｐゴシック"/>
                        </a:rPr>
                        <a:t>To recall or recognize information in some pre-arranged form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27140"/>
                          </a:solidFill>
                          <a:latin typeface="Times New Roman"/>
                          <a:ea typeface="ＭＳ Ｐゴシック"/>
                        </a:rPr>
                        <a:t>Define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27140"/>
                          </a:solidFill>
                          <a:latin typeface="Times New Roman"/>
                          <a:ea typeface="ＭＳ Ｐゴシック"/>
                        </a:rPr>
                        <a:t>Lis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ff"/>
                          </a:solidFill>
                          <a:latin typeface="Times New Roman"/>
                          <a:ea typeface="ＭＳ Ｐゴシック"/>
                        </a:rPr>
                        <a:t>Define levels of cognitive domain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914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e2323"/>
                          </a:solidFill>
                          <a:latin typeface="Times New Roman"/>
                          <a:ea typeface="ＭＳ Ｐゴシック"/>
                        </a:rPr>
                        <a:t>Comprehen-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8e2323"/>
                          </a:solidFill>
                          <a:latin typeface="Times New Roman"/>
                          <a:ea typeface="ＭＳ Ｐゴシック"/>
                        </a:rPr>
                        <a:t>s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ＭＳ Ｐゴシック"/>
                        </a:rPr>
                        <a:t>To understand meaning of information based on prior learning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27140"/>
                          </a:solidFill>
                          <a:latin typeface="Times New Roman"/>
                          <a:ea typeface="ＭＳ Ｐゴシック"/>
                        </a:rPr>
                        <a:t>Describe Explai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27140"/>
                          </a:solidFill>
                          <a:latin typeface="Times New Roman"/>
                          <a:ea typeface="ＭＳ Ｐゴシック"/>
                        </a:rPr>
                        <a:t>Interpre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ff"/>
                          </a:solidFill>
                          <a:latin typeface="Times New Roman"/>
                          <a:ea typeface="ＭＳ Ｐゴシック"/>
                        </a:rPr>
                        <a:t>Explain purpose of cognitive domain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914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e2323"/>
                          </a:solidFill>
                          <a:latin typeface="Times New Roman"/>
                          <a:ea typeface="ＭＳ Ｐゴシック"/>
                        </a:rPr>
                        <a:t>Applica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ＭＳ Ｐゴシック"/>
                        </a:rPr>
                        <a:t>To utilize information to complete a task with limited direction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27140"/>
                          </a:solidFill>
                          <a:latin typeface="Times New Roman"/>
                          <a:ea typeface="ＭＳ Ｐゴシック"/>
                        </a:rPr>
                        <a:t>Comput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27140"/>
                          </a:solidFill>
                          <a:latin typeface="Times New Roman"/>
                          <a:ea typeface="ＭＳ Ｐゴシック"/>
                        </a:rPr>
                        <a:t>Solve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127140"/>
                          </a:solidFill>
                          <a:latin typeface="Times New Roman"/>
                          <a:ea typeface="ＭＳ Ｐゴシック"/>
                        </a:rPr>
                        <a:t>Us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ff"/>
                          </a:solidFill>
                          <a:latin typeface="Times New Roman"/>
                          <a:ea typeface="ＭＳ Ｐゴシック"/>
                        </a:rPr>
                        <a:t>Write objective for levels of cognitive domain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e2323"/>
                          </a:solidFill>
                          <a:latin typeface="Times New Roman"/>
                          <a:ea typeface="ＭＳ Ｐゴシック"/>
                        </a:rPr>
                        <a:t>Analysi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ＭＳ Ｐゴシック"/>
                        </a:rPr>
                        <a:t>To classify and relate assumptions or evidence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27140"/>
                          </a:solidFill>
                          <a:latin typeface="Times New Roman"/>
                          <a:ea typeface="ＭＳ Ｐゴシック"/>
                        </a:rPr>
                        <a:t>Contras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27140"/>
                          </a:solidFill>
                          <a:latin typeface="Times New Roman"/>
                          <a:ea typeface="ＭＳ Ｐゴシック"/>
                        </a:rPr>
                        <a:t>Examin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ff"/>
                          </a:solidFill>
                          <a:latin typeface="Times New Roman"/>
                          <a:ea typeface="ＭＳ Ｐゴシック"/>
                        </a:rPr>
                        <a:t>Compare cognitive &amp; affective domains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914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e2323"/>
                          </a:solidFill>
                          <a:latin typeface="Times New Roman"/>
                          <a:ea typeface="ＭＳ Ｐゴシック"/>
                        </a:rPr>
                        <a:t>Synthesi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ＭＳ Ｐゴシック"/>
                        </a:rPr>
                        <a:t>To integrate or combine ideas into a new product or plan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27140"/>
                          </a:solidFill>
                          <a:latin typeface="Times New Roman"/>
                          <a:ea typeface="ＭＳ Ｐゴシック"/>
                        </a:rPr>
                        <a:t>Design Develop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127140"/>
                          </a:solidFill>
                          <a:latin typeface="Times New Roman"/>
                          <a:ea typeface="ＭＳ Ｐゴシック"/>
                        </a:rPr>
                        <a:t>Organiz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ff"/>
                          </a:solidFill>
                          <a:latin typeface="Times New Roman"/>
                          <a:ea typeface="ＭＳ Ｐゴシック"/>
                        </a:rPr>
                        <a:t>Design way to write objectives that combines 3 domains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914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e2323"/>
                          </a:solidFill>
                          <a:latin typeface="Times New Roman"/>
                          <a:ea typeface="ＭＳ Ｐゴシック"/>
                        </a:rPr>
                        <a:t>Evalua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ＭＳ Ｐゴシック"/>
                        </a:rPr>
                        <a:t>Critique idea based on specific standards and criteria.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27140"/>
                          </a:solidFill>
                          <a:latin typeface="Times New Roman"/>
                          <a:ea typeface="ＭＳ Ｐゴシック"/>
                        </a:rPr>
                        <a:t>Appraise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127140"/>
                          </a:solidFill>
                          <a:latin typeface="Times New Roman"/>
                          <a:ea typeface="ＭＳ Ｐゴシック"/>
                        </a:rPr>
                        <a:t>Judge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127140"/>
                          </a:solidFill>
                          <a:latin typeface="Times New Roman"/>
                          <a:ea typeface="ＭＳ Ｐゴシック"/>
                        </a:rPr>
                        <a:t>Justif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ff"/>
                          </a:solidFill>
                          <a:latin typeface="Times New Roman"/>
                          <a:ea typeface="ＭＳ Ｐゴシック"/>
                        </a:rPr>
                        <a:t>Judge effectiveness of writing objectives using taxonomy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</a:tr>
            </a:tbl>
          </a:graphicData>
        </a:graphic>
      </p:graphicFrame>
      <p:sp>
        <p:nvSpPr>
          <p:cNvPr id="139" name="Rectangle 1"/>
          <p:cNvSpPr/>
          <p:nvPr/>
        </p:nvSpPr>
        <p:spPr>
          <a:xfrm>
            <a:off x="2615760" y="6411960"/>
            <a:ext cx="391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able developed by W. Huitt (1998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Domains of Learning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ach lesson plan must include goals/objectives, or statements indicating what students should be able to do at the end of a period of instruction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se goals are known as goal statements, goals objectives, objectives, or learning targets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ach objective falls within at least one of three domains (or categories) of learning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The Affective Domain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1066320" y="182880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bjectives reflecting underlying emotions, feelings, or values are said to come from the affective domain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affective domain contains five levels, each of which builds upon the other.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xample: 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The music student will appreciate music from the Baroque period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5" name="Picture 5" descr=""/>
          <p:cNvPicPr/>
          <p:nvPr/>
        </p:nvPicPr>
        <p:blipFill>
          <a:blip r:embed="rId1"/>
          <a:stretch/>
        </p:blipFill>
        <p:spPr>
          <a:xfrm>
            <a:off x="6781680" y="4800600"/>
            <a:ext cx="1308240" cy="130824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Hierarchical Levels of the Affective Domain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ceiving (Attending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spond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alu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rgan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haracterization by a value or value complex:  One behaves in a manner consistent with one’s value system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8" name="Picture 4" descr="th-1.jpg"/>
          <p:cNvPicPr/>
          <p:nvPr/>
        </p:nvPicPr>
        <p:blipFill>
          <a:blip r:embed="rId1"/>
          <a:stretch/>
        </p:blipFill>
        <p:spPr>
          <a:xfrm>
            <a:off x="5757840" y="2286000"/>
            <a:ext cx="2014560" cy="201456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2"/>
          <p:cNvSpPr/>
          <p:nvPr/>
        </p:nvSpPr>
        <p:spPr>
          <a:xfrm>
            <a:off x="685800" y="457200"/>
            <a:ext cx="81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Levels of the Affective Domai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457200" y="1295280"/>
          <a:ext cx="8381880" cy="4754520"/>
        </p:xfrm>
        <a:graphic>
          <a:graphicData uri="http://schemas.openxmlformats.org/drawingml/2006/table">
            <a:tbl>
              <a:tblPr/>
              <a:tblGrid>
                <a:gridCol w="1752480"/>
                <a:gridCol w="3124440"/>
                <a:gridCol w="1295280"/>
                <a:gridCol w="2209680"/>
              </a:tblGrid>
              <a:tr h="457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8e2323"/>
                          </a:solidFill>
                          <a:latin typeface="Times New Roman"/>
                          <a:ea typeface="ＭＳ Ｐゴシック"/>
                        </a:rPr>
                        <a:t>Leve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ＭＳ Ｐゴシック"/>
                        </a:rPr>
                        <a:t>Descriptio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27140"/>
                          </a:solidFill>
                          <a:latin typeface="Times New Roman"/>
                          <a:ea typeface="ＭＳ Ｐゴシック"/>
                        </a:rPr>
                        <a:t>Verb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ff"/>
                          </a:solidFill>
                          <a:latin typeface="Times New Roman"/>
                          <a:ea typeface="ＭＳ Ｐゴシック"/>
                        </a:rPr>
                        <a:t>Objectiv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914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e2323"/>
                          </a:solidFill>
                          <a:latin typeface="Times New Roman"/>
                          <a:ea typeface="ＭＳ Ｐゴシック"/>
                        </a:rPr>
                        <a:t>Receivin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ＭＳ Ｐゴシック"/>
                        </a:rPr>
                        <a:t>Being aware of, or attending to something in the environment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27140"/>
                          </a:solidFill>
                          <a:latin typeface="Times New Roman"/>
                          <a:ea typeface="ＭＳ Ｐゴシック"/>
                        </a:rPr>
                        <a:t>Listen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127140"/>
                          </a:solidFill>
                          <a:latin typeface="Times New Roman"/>
                          <a:ea typeface="ＭＳ Ｐゴシック"/>
                        </a:rPr>
                        <a:t>Notice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127140"/>
                          </a:solidFill>
                          <a:latin typeface="Times New Roman"/>
                          <a:ea typeface="ＭＳ Ｐゴシック"/>
                        </a:rPr>
                        <a:t>Tolerat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ff"/>
                          </a:solidFill>
                          <a:latin typeface="Times New Roman"/>
                          <a:ea typeface="ＭＳ Ｐゴシック"/>
                        </a:rPr>
                        <a:t>Listen attentively to badminton introduction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914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e2323"/>
                          </a:solidFill>
                          <a:latin typeface="Times New Roman"/>
                          <a:ea typeface="ＭＳ Ｐゴシック"/>
                        </a:rPr>
                        <a:t>Respondin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ＭＳ Ｐゴシック"/>
                        </a:rPr>
                        <a:t>Showing some new behavior as a result of experience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27140"/>
                          </a:solidFill>
                          <a:latin typeface="Times New Roman"/>
                          <a:ea typeface="ＭＳ Ｐゴシック"/>
                        </a:rPr>
                        <a:t>Comply Enjoy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127140"/>
                          </a:solidFill>
                          <a:latin typeface="Times New Roman"/>
                          <a:ea typeface="ＭＳ Ｐゴシック"/>
                        </a:rPr>
                        <a:t>Follow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ff"/>
                          </a:solidFill>
                          <a:latin typeface="Times New Roman"/>
                          <a:ea typeface="ＭＳ Ｐゴシック"/>
                        </a:rPr>
                        <a:t>Voluntarily help set up badminton nets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e2323"/>
                          </a:solidFill>
                          <a:latin typeface="Times New Roman"/>
                          <a:ea typeface="ＭＳ Ｐゴシック"/>
                        </a:rPr>
                        <a:t>Valuin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ＭＳ Ｐゴシック"/>
                        </a:rPr>
                        <a:t>Showing some definite involvement or commitment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27140"/>
                          </a:solidFill>
                          <a:latin typeface="Times New Roman"/>
                          <a:ea typeface="ＭＳ Ｐゴシック"/>
                        </a:rPr>
                        <a:t>Carry out Expres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ff"/>
                          </a:solidFill>
                          <a:latin typeface="Times New Roman"/>
                          <a:ea typeface="ＭＳ Ｐゴシック"/>
                        </a:rPr>
                        <a:t>Attend optional badminton match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914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e2323"/>
                          </a:solidFill>
                          <a:latin typeface="Times New Roman"/>
                          <a:ea typeface="ＭＳ Ｐゴシック"/>
                        </a:rPr>
                        <a:t>Organiza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ＭＳ Ｐゴシック"/>
                        </a:rPr>
                        <a:t>Integrating a new value into one's general set of values relative to other priorities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27140"/>
                          </a:solidFill>
                          <a:latin typeface="Times New Roman"/>
                          <a:ea typeface="ＭＳ Ｐゴシック"/>
                        </a:rPr>
                        <a:t>Choose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127140"/>
                          </a:solidFill>
                          <a:latin typeface="Times New Roman"/>
                          <a:ea typeface="ＭＳ Ｐゴシック"/>
                        </a:rPr>
                        <a:t>Consider Pref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ff"/>
                          </a:solidFill>
                          <a:latin typeface="Times New Roman"/>
                          <a:ea typeface="ＭＳ Ｐゴシック"/>
                        </a:rPr>
                        <a:t>Purchase own badminton racket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914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e2323"/>
                          </a:solidFill>
                          <a:latin typeface="Times New Roman"/>
                          <a:ea typeface="ＭＳ Ｐゴシック"/>
                        </a:rPr>
                        <a:t>Characteriza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ＭＳ Ｐゴシック"/>
                        </a:rPr>
                        <a:t>Acting consistently with the new value; person is known by the value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27140"/>
                          </a:solidFill>
                          <a:latin typeface="Times New Roman"/>
                          <a:ea typeface="ＭＳ Ｐゴシック"/>
                        </a:rPr>
                        <a:t>Act on Depict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127140"/>
                          </a:solidFill>
                          <a:latin typeface="Times New Roman"/>
                          <a:ea typeface="ＭＳ Ｐゴシック"/>
                        </a:rPr>
                        <a:t>Exemplif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ff"/>
                          </a:solidFill>
                          <a:latin typeface="Times New Roman"/>
                          <a:ea typeface="ＭＳ Ｐゴシック"/>
                        </a:rPr>
                        <a:t>Join intramurals to play badminton twice per week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</a:tr>
            </a:tbl>
          </a:graphicData>
        </a:graphic>
      </p:graphicFrame>
      <p:sp>
        <p:nvSpPr>
          <p:cNvPr id="121" name="TextBox 1"/>
          <p:cNvSpPr/>
          <p:nvPr/>
        </p:nvSpPr>
        <p:spPr>
          <a:xfrm>
            <a:off x="2552040" y="6324480"/>
            <a:ext cx="391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able developed by W. Huitt (1998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Psychomotor Domain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bjectives in this domain deal with movement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ample: 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The dance student will perform all 5 basic positions of ballet with 100% accuracy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4" name="Picture 3" descr=""/>
          <p:cNvPicPr/>
          <p:nvPr/>
        </p:nvPicPr>
        <p:blipFill>
          <a:blip r:embed="rId1"/>
          <a:stretch/>
        </p:blipFill>
        <p:spPr>
          <a:xfrm>
            <a:off x="5715000" y="4419720"/>
            <a:ext cx="1920960" cy="137160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Psychomotor Domain Hierarchy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1066320" y="205740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oving – gross motor control, such as skipping and runn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anipulating – fine motor coordination, such as writing, drawing, cutt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mmunicating – communication of ideas and feelings, such as body language, gestures, and facial expressio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reating – represents the student’s coordination of thinking, learning, and behaving in all three domains (such as drama, dance, art, etc.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ipe dir="l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Cognitive Domain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bjectives that deals with level of thinking required of the studen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ost objectives in the schools                                tend to come from the cognitive                             domain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gnitive domains most referred to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Bloom’s Taxonomy of Educational Objectives; six hierarchical levels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nderson and Krathwohl’s Taxonomy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Revision of Bloom’s Taxonom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lips the last two levels of Bloom’s Taxonom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9" name="Picture 3" descr=""/>
          <p:cNvPicPr/>
          <p:nvPr/>
        </p:nvPicPr>
        <p:blipFill>
          <a:blip r:embed="rId1"/>
          <a:stretch/>
        </p:blipFill>
        <p:spPr>
          <a:xfrm>
            <a:off x="6019920" y="2438280"/>
            <a:ext cx="2349360" cy="152424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320" y="-15264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Cognitive Domain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1066320" y="137160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New Model:  Anderson and Krathwohl’s Taxonomy (2000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Very similar to Bloom’s Taxonomy, except for switching of the two highest levels.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nderson and Krathwohl’s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Bloom’s Taxonomy                          Taxonomy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2" name="Picture 3" descr="Two cognitive domains.png"/>
          <p:cNvPicPr/>
          <p:nvPr/>
        </p:nvPicPr>
        <p:blipFill>
          <a:blip r:embed="rId1"/>
          <a:stretch/>
        </p:blipFill>
        <p:spPr>
          <a:xfrm>
            <a:off x="914400" y="3276720"/>
            <a:ext cx="7543800" cy="320976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4T13:25:38Z</dcterms:created>
  <dc:creator> </dc:creator>
  <dc:description/>
  <dc:language>en-US</dc:language>
  <cp:lastModifiedBy>Karen Verkler</cp:lastModifiedBy>
  <cp:lastPrinted>2013-09-03T11:08:52Z</cp:lastPrinted>
  <dcterms:modified xsi:type="dcterms:W3CDTF">2014-07-28T14:39:18Z</dcterms:modified>
  <cp:revision>264</cp:revision>
  <dc:subject/>
  <dc:title>Slide 1</dc:title>
</cp:coreProperties>
</file>